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285-5B3B-4211-9E1C-B10A27F5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FB3-3941-4094-9BAE-F526F6C3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56A-7ACF-4461-BC45-6D47204B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333-4E1F-479B-8C64-686E4952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2DE5-2C2E-4C04-A637-C1A73F79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E71-7A3F-430D-BCAE-C5743E67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4C69-6D98-437D-A630-1CD2229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BD45-9DFB-46EA-80C7-8E9BF81C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7B81-3012-4462-9D63-3EED243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1610-F5F8-41EC-A562-E73C26D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0671-7D43-4C8D-9D61-D977F07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2DC-0860-4611-8AE0-DCD2B22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EE1-B787-43B7-8562-D85FC5C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90E3-D1CA-494A-958F-C2159AF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5334-073F-4859-9CA0-40C98508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FF7E-F663-43B5-9D08-C6D70899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26F-3883-46D2-87AB-2C63D4EB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6D8-1370-4752-A060-1CE6E2F4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86B-249F-4996-A81A-2A40316A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513-A11D-4B4E-B0D6-C45FF4A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F6D-63A7-4662-B298-214A7C6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DB1-59D2-4523-B224-E1BDF57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97F-FB2F-4B4E-A681-AB5821F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CCE-6BB1-4036-B40D-21FBC2D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170D-D386-414D-B7B7-0F7D801918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745-90D1-4C54-9EFC-FA0EB0A984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9280" y="7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19000" y="4471920"/>
          <a:ext cx="8229600" cy="2170080"/>
        </p:xfrm>
        <a:graphic>
          <a:graphicData uri="http://schemas.openxmlformats.org/drawingml/2006/table">
            <a:tbl>
              <a:tblPr/>
              <a:tblGrid>
                <a:gridCol w="1218960"/>
                <a:gridCol w="838440"/>
                <a:gridCol w="617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*0.6) + (0.0*0.1) + (0.0*0.2) = 0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*0.3) + (0.0*0.6) + (0.0*0.2) = 0.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*0.1) + (0.0*0.3) + (0.0*0.6) = 0.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985680" y="2743200"/>
          <a:ext cx="3276720" cy="146052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6880" y="3133800"/>
                <a:ext cx="4368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5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3400" y="4557600"/>
          <a:ext cx="8229600" cy="2171880"/>
        </p:xfrm>
        <a:graphic>
          <a:graphicData uri="http://schemas.openxmlformats.org/drawingml/2006/table">
            <a:tbl>
              <a:tblPr/>
              <a:tblGrid>
                <a:gridCol w="1176120"/>
                <a:gridCol w="733680"/>
                <a:gridCol w="734760"/>
                <a:gridCol w="558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0.6*0.6) + (0.3*0.1) + (0.1*0.2)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0.6*0.3) + (0.3*0.6) + (0.1*0.2)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0.6*0.1) + (0.3*0.3) + (0.1*0.6)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85960" y="290052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349880" y="3154320"/>
                <a:ext cx="46083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1200" y="804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rder of a Markov Model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0280" y="2647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(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th order) Markov as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at the distributio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depends solely on the joint distributio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-1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,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-2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, … 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-N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present (current state) can be predicted using only a knowledge of the past (state of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previous time ste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66"/>
                </a:solidFill>
                <a:uFillTx/>
                <a:latin typeface="Arial"/>
              </a:rPr>
              <a:t>Problem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number of parameters for state transition matrix increases as |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S|*|S|</a:t>
            </a:r>
            <a:r>
              <a:rPr b="0" i="1" lang="en-GB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efore we can discuss Hidden Markov Models (HMMs)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6880" y="2876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ervable and hidden variab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variabl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bserv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f its value can be directly measured, or given as an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variabl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dd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f its value cannot be measured directly, but we can infer its value indirect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efore we can discuss Hidden Markov Models (HMMs)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a hermit living in a cage. He cannot see the weather conditions, but he does have a magic crystal which reacts to environmental conditions. The crystal turns one of 3 colours (red, green or blu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ctual weather states (sunny, rainy, wet) are hidden to the hermit, but the crystal states (red, green and blue) are observ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3600" y="8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dden Markov Model (HMM)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mode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7040" y="2585880"/>
            <a:ext cx="8349480" cy="4228560"/>
            <a:chOff x="797040" y="2585880"/>
            <a:chExt cx="8349480" cy="4228560"/>
          </a:xfrm>
        </p:grpSpPr>
        <p:grpSp>
          <p:nvGrpSpPr>
            <p:cNvPr id="148" name=""/>
            <p:cNvGrpSpPr/>
            <p:nvPr/>
          </p:nvGrpSpPr>
          <p:grpSpPr>
            <a:xfrm>
              <a:off x="797040" y="2585880"/>
              <a:ext cx="7112160" cy="4228560"/>
              <a:chOff x="797040" y="2585880"/>
              <a:chExt cx="7112160" cy="4228560"/>
            </a:xfrm>
          </p:grpSpPr>
          <p:sp>
            <p:nvSpPr>
              <p:cNvPr id="149" name=""/>
              <p:cNvSpPr/>
              <p:nvPr/>
            </p:nvSpPr>
            <p:spPr>
              <a:xfrm>
                <a:off x="1406520" y="4592160"/>
                <a:ext cx="1067040" cy="99036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07120" y="4566960"/>
                <a:ext cx="1067040" cy="99000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92520" y="4592160"/>
                <a:ext cx="1067040" cy="99036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73560" y="4973400"/>
                <a:ext cx="1218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73560" y="5202000"/>
                <a:ext cx="1218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21120" y="5556600"/>
                <a:ext cx="711360" cy="634680"/>
              </a:xfrm>
              <a:custGeom>
                <a:avLst/>
                <a:gdLst/>
                <a:ahLst/>
                <a:rect l="l" t="t" r="r" b="b"/>
                <a:pathLst>
                  <a:path w="448" h="400">
                    <a:moveTo>
                      <a:pt x="104" y="400"/>
                    </a:moveTo>
                    <a:cubicBezTo>
                      <a:pt x="52" y="312"/>
                      <a:pt x="0" y="224"/>
                      <a:pt x="8" y="160"/>
                    </a:cubicBezTo>
                    <a:cubicBezTo>
                      <a:pt x="16" y="96"/>
                      <a:pt x="88" y="32"/>
                      <a:pt x="152" y="16"/>
                    </a:cubicBezTo>
                    <a:cubicBezTo>
                      <a:pt x="216" y="0"/>
                      <a:pt x="344" y="24"/>
                      <a:pt x="392" y="64"/>
                    </a:cubicBezTo>
                    <a:cubicBezTo>
                      <a:pt x="440" y="104"/>
                      <a:pt x="448" y="200"/>
                      <a:pt x="440" y="256"/>
                    </a:cubicBezTo>
                    <a:cubicBezTo>
                      <a:pt x="432" y="312"/>
                      <a:pt x="344" y="376"/>
                      <a:pt x="344" y="4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6200000">
                <a:off x="759240" y="4782600"/>
                <a:ext cx="710640" cy="635040"/>
              </a:xfrm>
              <a:custGeom>
                <a:avLst/>
                <a:gdLst/>
                <a:ahLst/>
                <a:rect l="l" t="t" r="r" b="b"/>
                <a:pathLst>
                  <a:path w="448" h="400">
                    <a:moveTo>
                      <a:pt x="104" y="400"/>
                    </a:moveTo>
                    <a:cubicBezTo>
                      <a:pt x="52" y="312"/>
                      <a:pt x="0" y="224"/>
                      <a:pt x="8" y="160"/>
                    </a:cubicBezTo>
                    <a:cubicBezTo>
                      <a:pt x="16" y="96"/>
                      <a:pt x="88" y="32"/>
                      <a:pt x="152" y="16"/>
                    </a:cubicBezTo>
                    <a:cubicBezTo>
                      <a:pt x="216" y="0"/>
                      <a:pt x="344" y="24"/>
                      <a:pt x="392" y="64"/>
                    </a:cubicBezTo>
                    <a:cubicBezTo>
                      <a:pt x="440" y="104"/>
                      <a:pt x="448" y="200"/>
                      <a:pt x="440" y="256"/>
                    </a:cubicBezTo>
                    <a:cubicBezTo>
                      <a:pt x="432" y="312"/>
                      <a:pt x="344" y="376"/>
                      <a:pt x="344" y="4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400000">
                <a:off x="7236000" y="4757040"/>
                <a:ext cx="711000" cy="635040"/>
              </a:xfrm>
              <a:custGeom>
                <a:avLst/>
                <a:gdLst/>
                <a:ahLst/>
                <a:rect l="l" t="t" r="r" b="b"/>
                <a:pathLst>
                  <a:path w="448" h="400">
                    <a:moveTo>
                      <a:pt x="104" y="400"/>
                    </a:moveTo>
                    <a:cubicBezTo>
                      <a:pt x="52" y="312"/>
                      <a:pt x="0" y="224"/>
                      <a:pt x="8" y="160"/>
                    </a:cubicBezTo>
                    <a:cubicBezTo>
                      <a:pt x="16" y="96"/>
                      <a:pt x="88" y="32"/>
                      <a:pt x="152" y="16"/>
                    </a:cubicBezTo>
                    <a:cubicBezTo>
                      <a:pt x="216" y="0"/>
                      <a:pt x="344" y="24"/>
                      <a:pt x="392" y="64"/>
                    </a:cubicBezTo>
                    <a:cubicBezTo>
                      <a:pt x="440" y="104"/>
                      <a:pt x="448" y="200"/>
                      <a:pt x="440" y="256"/>
                    </a:cubicBezTo>
                    <a:cubicBezTo>
                      <a:pt x="432" y="312"/>
                      <a:pt x="344" y="376"/>
                      <a:pt x="344" y="4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86320" y="489852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Sunny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46200" y="490968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Ra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02400" y="492876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We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59560" y="5024160"/>
                <a:ext cx="1371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35520" y="5252760"/>
                <a:ext cx="1371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16360" y="5557320"/>
                <a:ext cx="4572000" cy="914040"/>
              </a:xfrm>
              <a:custGeom>
                <a:avLst/>
                <a:gdLst/>
                <a:ahLst/>
                <a:rect l="l" t="t" r="r" b="b"/>
                <a:pathLst>
                  <a:path w="2880" h="576">
                    <a:moveTo>
                      <a:pt x="0" y="0"/>
                    </a:moveTo>
                    <a:cubicBezTo>
                      <a:pt x="504" y="288"/>
                      <a:pt x="1008" y="576"/>
                      <a:pt x="1488" y="576"/>
                    </a:cubicBezTo>
                    <a:cubicBezTo>
                      <a:pt x="1968" y="576"/>
                      <a:pt x="2648" y="104"/>
                      <a:pt x="2880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40040" y="5557320"/>
                <a:ext cx="4952880" cy="1257120"/>
              </a:xfrm>
              <a:custGeom>
                <a:avLst/>
                <a:gdLst/>
                <a:ahLst/>
                <a:rect l="l" t="t" r="r" b="b"/>
                <a:pathLst>
                  <a:path w="3120" h="792">
                    <a:moveTo>
                      <a:pt x="48" y="0"/>
                    </a:moveTo>
                    <a:cubicBezTo>
                      <a:pt x="24" y="20"/>
                      <a:pt x="0" y="40"/>
                      <a:pt x="144" y="144"/>
                    </a:cubicBezTo>
                    <a:cubicBezTo>
                      <a:pt x="288" y="248"/>
                      <a:pt x="664" y="520"/>
                      <a:pt x="912" y="624"/>
                    </a:cubicBezTo>
                    <a:cubicBezTo>
                      <a:pt x="1160" y="728"/>
                      <a:pt x="1384" y="792"/>
                      <a:pt x="1632" y="768"/>
                    </a:cubicBezTo>
                    <a:cubicBezTo>
                      <a:pt x="1880" y="744"/>
                      <a:pt x="2152" y="608"/>
                      <a:pt x="2400" y="480"/>
                    </a:cubicBezTo>
                    <a:cubicBezTo>
                      <a:pt x="2648" y="352"/>
                      <a:pt x="3000" y="88"/>
                      <a:pt x="3120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06520" y="2585880"/>
                <a:ext cx="1067040" cy="99036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68840" y="2585880"/>
                <a:ext cx="1066680" cy="99036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054840" y="2585880"/>
                <a:ext cx="1066680" cy="99036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940040" y="3575880"/>
                <a:ext cx="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940040" y="3499560"/>
                <a:ext cx="2057400" cy="1066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1940040" y="3575880"/>
                <a:ext cx="457200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2016360" y="3575880"/>
                <a:ext cx="220968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226040" y="3576240"/>
                <a:ext cx="0" cy="10663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226040" y="3575880"/>
                <a:ext cx="236232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2244960" y="3499560"/>
                <a:ext cx="4495680" cy="1066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4530960" y="3499560"/>
                <a:ext cx="2209680" cy="1066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740640" y="3575880"/>
                <a:ext cx="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60240" y="2890440"/>
                <a:ext cx="66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Re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12040" y="289044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Gree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8560" y="289044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Blu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347600" y="2700000"/>
              <a:ext cx="15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variable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62400" y="4624200"/>
              <a:ext cx="128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variable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3040" y="7948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56800" y="239508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trix as b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62160" y="3905280"/>
          <a:ext cx="3886200" cy="2184480"/>
        </p:xfrm>
        <a:graphic>
          <a:graphicData uri="http://schemas.openxmlformats.org/drawingml/2006/table">
            <a:tbl>
              <a:tblPr/>
              <a:tblGrid>
                <a:gridCol w="990720"/>
                <a:gridCol w="952560"/>
                <a:gridCol w="971280"/>
                <a:gridCol w="971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rot="16200000">
            <a:off x="129600" y="50421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12960" y="35244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20720" y="3905280"/>
            <a:ext cx="383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The </a:t>
            </a:r>
            <a:r>
              <a:rPr b="1" i="1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B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 (confusion) 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ngle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N * 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matrix iff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iscrete. If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s continuou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s usually represented as 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of Gaussian mix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9200" y="852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can you do with a HM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8720" y="24861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a sequence of observations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Calculate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– forward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calculate the most likely sequence of hidden states (Viterbi decod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maximise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generate new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the HMM as a generative model) – stochastic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61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57320" y="2976480"/>
          <a:ext cx="3276720" cy="146052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663560" y="5135400"/>
                <a:ext cx="64468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4876920" y="2743200"/>
          <a:ext cx="3886200" cy="2090520"/>
        </p:xfrm>
        <a:graphic>
          <a:graphicData uri="http://schemas.openxmlformats.org/drawingml/2006/table">
            <a:tbl>
              <a:tblPr/>
              <a:tblGrid>
                <a:gridCol w="990360"/>
                <a:gridCol w="952560"/>
                <a:gridCol w="971640"/>
                <a:gridCol w="97164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rot="16200000">
            <a:off x="3787200" y="366588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84720" y="24192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08760" y="6114960"/>
            <a:ext cx="673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ssume </a:t>
            </a:r>
            <a:r>
              <a:rPr b="0" i="1" lang="en-GB" sz="32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= {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 … 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}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re given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04960" y="82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28880" y="4467240"/>
          <a:ext cx="4876560" cy="2170080"/>
        </p:xfrm>
        <a:graphic>
          <a:graphicData uri="http://schemas.openxmlformats.org/drawingml/2006/table">
            <a:tbl>
              <a:tblPr/>
              <a:tblGrid>
                <a:gridCol w="1287000"/>
                <a:gridCol w="884520"/>
                <a:gridCol w="270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 * 0.8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 * 0.1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 * 0.2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157400" y="272880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229360" y="2714760"/>
          <a:ext cx="3276360" cy="1595160"/>
        </p:xfrm>
        <a:graphic>
          <a:graphicData uri="http://schemas.openxmlformats.org/drawingml/2006/table">
            <a:tbl>
              <a:tblPr/>
              <a:tblGrid>
                <a:gridCol w="834840"/>
                <a:gridCol w="803160"/>
                <a:gridCol w="819360"/>
                <a:gridCol w="819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rot="16200000">
            <a:off x="4125240" y="327204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3800" y="23670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37640" y="5543640"/>
            <a:ext cx="264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red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9360" y="49863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ime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t = 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is a special cas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idden) Markov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can you do with th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3400" y="81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4224240"/>
          <a:ext cx="8153280" cy="2176560"/>
        </p:xfrm>
        <a:graphic>
          <a:graphicData uri="http://schemas.openxmlformats.org/drawingml/2006/table">
            <a:tbl>
              <a:tblPr/>
              <a:tblGrid>
                <a:gridCol w="1152360"/>
                <a:gridCol w="523800"/>
                <a:gridCol w="83844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6) + (0.00*0.1) + (0.00*0.2)} * 0.1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3) + (0.00*0.6) + (0.00*0.2)} * 0.8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9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1) + (0.00*0.3) + (0.00*0.6)} * 0.2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85760" y="2529000"/>
          <a:ext cx="3276720" cy="150480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600880" y="2467080"/>
          <a:ext cx="2919240" cy="1527120"/>
        </p:xfrm>
        <a:graphic>
          <a:graphicData uri="http://schemas.openxmlformats.org/drawingml/2006/table">
            <a:tbl>
              <a:tblPr/>
              <a:tblGrid>
                <a:gridCol w="743760"/>
                <a:gridCol w="715680"/>
                <a:gridCol w="729720"/>
                <a:gridCol w="7300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 rot="16200000">
            <a:off x="4496760" y="30816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19440" y="6386400"/>
            <a:ext cx="41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red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 green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5320" y="23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ior as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actical issues in computing the forward evaluation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asure of likelihood per observation symb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ckwards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 “An Introduction to Hidden Markov Models”, L. R. Rabiner &amp; B. H. Juang, IEEE ASSP Magazine, January 198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ry reading the Rabiner paper (it’s quite friendly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reall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ixture of Gaussians: many maths books will cover MOG. Non-trivial maths involved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ble length Markov Models: “The Power of Amnesia”, D. Ron, Y. Singer and N. Tishby, In Advances in Neural Information Processing Systems (NIPS), vol 6, pp 176-183, 199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-th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rder Markov model incorporates the assumption that the future depends only on the las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imeste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Markov model reasoning over time, we use a state transition matrix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a vector 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representing the probabilities at time step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use a matrix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hich maps the observatio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the hidden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ussian mixtures and HMMs with continuous valu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H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4040" y="271764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about temporal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ethod that you can use as a basis for our model of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2120" y="254772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ov Models are used to represent and model temporal relationships, e.g.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on of objects in a trac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s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preting sign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ech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4040" y="2385720"/>
            <a:ext cx="8038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 for MIT’s Smart Room, we can use Markov Models to represent cue gestures that control the behaviour of other agents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0600" y="308124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3120" y="77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0560" y="239076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s a Markov Mode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Markov assum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ward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rder of a Markov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able and hidden vari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Hidden Markov Model (HM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ward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iterbi deco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earning the HMM parame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(first order) Markov as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the distributio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pends solely on the distributio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-1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esent (current state) can be predicted using local knowledge of the past (state at previous time ste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1200" y="7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276720"/>
            <a:ext cx="3886200" cy="2971800"/>
            <a:chOff x="838080" y="3276720"/>
            <a:chExt cx="3886200" cy="2971800"/>
          </a:xfrm>
        </p:grpSpPr>
        <p:sp>
          <p:nvSpPr>
            <p:cNvPr id="110" name=""/>
            <p:cNvSpPr/>
            <p:nvPr/>
          </p:nvSpPr>
          <p:spPr>
            <a:xfrm>
              <a:off x="1353960" y="5396040"/>
              <a:ext cx="901800" cy="8524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5760" y="3822840"/>
              <a:ext cx="901800" cy="8524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86080" y="5396040"/>
              <a:ext cx="901800" cy="8524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933560" y="4609800"/>
              <a:ext cx="514440" cy="785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125800" y="4674960"/>
              <a:ext cx="515880" cy="785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5760" y="5724720"/>
              <a:ext cx="1030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55760" y="5921640"/>
              <a:ext cx="1030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8720" y="4675320"/>
              <a:ext cx="515880" cy="8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92400" y="4543560"/>
              <a:ext cx="515880" cy="8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3480" y="3276720"/>
              <a:ext cx="601560" cy="54612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800640" y="5564880"/>
              <a:ext cx="611280" cy="53676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4149720" y="5499360"/>
              <a:ext cx="612720" cy="53640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01480" y="407844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unny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9880" y="566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ai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1080" y="5624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We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5052960" y="3933720"/>
          <a:ext cx="3886200" cy="218412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1640"/>
                <a:gridCol w="971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618520" y="311940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ate Transition 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008240" y="48618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te at time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t-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21760" y="3538440"/>
            <a:ext cx="14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te at time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2280" y="259092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n represent as a state transition diagra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ly a Markov Model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is the probability that you are in a state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tate Transition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this information to calculate the probability for our weather example at any futur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ing Forward Evaluation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4:17:16Z</dcterms:modified>
  <cp:revision>42</cp:revision>
  <dc:subject/>
  <dc:title>Markov Models</dc:title>
</cp:coreProperties>
</file>